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C3B-B968-4623-83CE-4ECC81C9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FA0-B75E-496B-851D-E623950E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3B0-372C-4607-86B3-26E3FB9E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EB3-6F81-4004-8DBC-3FEB1C6A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646-E969-47C6-9C42-494F1278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BB5-8C7A-4874-94E3-8EA4F20E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5E0-97F4-4971-A0DD-39D5255D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BFC-EF07-4D75-AE32-949ECF65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166-F748-4CCE-A9C9-236DEBB4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BE8-37F9-4619-9A6F-8009A818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28E-8C72-475F-A244-126AE004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367-DB3C-4D07-B235-84FBDE7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8A4F-6F9F-405F-8EBC-FC7DC72E7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 Vzdávajme Pánu Bohu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sláviť Tvorcu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om radostn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ovať lásku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vrúcnym, úprimný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me Pánu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a chv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jeho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nech počuj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me lás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u vernú, st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ou nás hriešny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ľ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sláviť Tvorcu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om radostn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ovať lásku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vrúcnym, 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me Pánu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a chv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z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lovekom sa st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v srdci má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osť neskonal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iny naš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a seba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sláviť Tvorcu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om radostn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ovať lásku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vrúcnym, 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me Pánu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a chv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trí mu úc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stva všetkého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nám 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vekov Ska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y ist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ha več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04:31Z</dcterms:modified>
  <cp:revision>9</cp:revision>
  <dc:subject/>
  <dc:title>Je veľký náš Pán, on slávy je Kráľ Nech do všetkých strán  spev vrúcnych znie chvál.</dc:title>
</cp:coreProperties>
</file>